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B59E-C9A4-4237-9B74-76480ADD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ACC9-CC31-4595-A1CD-48F56F40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73D4-A069-489C-B43F-6826DBAE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A491-E84B-4BB7-905E-9FC0CBA0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9CDF-3FAF-47C1-A324-AA69DED7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7214-54DC-47DE-B71D-2FAF3894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614F-8FE5-4A4B-A876-884618B5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8CFA-9887-463C-BAA0-AD32AB2F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78F5-3107-4658-9EA0-3A60D785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4674-2556-4976-9F0F-91D99A07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ECE5-A5B2-4822-A109-6B9F0793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E94-1926-4FCD-AF4D-50E6680D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280D-4492-4DE7-9169-70E137454E5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ibrary.thinkquest.org/J002678F/welcome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roject ideas: Great explor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1484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e a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owerPoint presenta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 their report to share with the clas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 "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cruitment Post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e as reporters and "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tervie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" the explorer for a "magazine article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 out a scripted "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ive TV Intervie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" for a videotape or live perform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e and videotape a "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-enactment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a significant event from the explorer's lif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 "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Journal Pag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" or "Captain's Log" entries for significant eve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ebques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library.thinkquest.org/J002678F/welcome.ht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8T21:18:22Z</dcterms:created>
  <dc:creator>Pepe</dc:creator>
  <dc:description/>
  <dc:language>en-US</dc:language>
  <cp:lastModifiedBy>Pepe</cp:lastModifiedBy>
  <dcterms:modified xsi:type="dcterms:W3CDTF">2011-08-08T21:28:42Z</dcterms:modified>
  <cp:revision>2</cp:revision>
  <dc:subject/>
  <dc:title>Project ideas: Great explorers</dc:title>
</cp:coreProperties>
</file>